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D40-8705-454B-871C-1E06914B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D46-5A7A-4B1C-8E6A-C6C87977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BCE-B4E6-4AE3-B7FA-0298286C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F3C-2BD8-4239-A134-E5D6AB8B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731-7199-4CF9-AEF6-28CA461E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895-7BE0-414C-84EB-FD091292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A50-DA38-41D4-89D8-D1A983BC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78C-9EB4-4843-9CA0-5BE45ADE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CAF-0D6E-4656-807C-8D1D0C5D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2ED-FC0D-46F3-8E8C-8B6CA4BF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759-318B-4A08-A2CC-01047E25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508-4F8D-483C-83D0-A76B0B33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8E38-056B-4B26-A6AD-B0611DE37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CES ET FAIBLESSES APPA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906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90612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aibl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9:22Z</dcterms:modified>
  <cp:revision>70</cp:revision>
  <dc:subject/>
  <dc:title>Contrôle interne des risques</dc:title>
</cp:coreProperties>
</file>